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BVD sect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BVD sect 2" id="1">
      <p:sldLst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BVD sect 3" id="2">
      <p:sldLst>
        <p:sld r:id="rId19"/>
        <p:sld r:id="rId20"/>
        <p:sld r:id="rId21"/>
        <p:sld r:id="rId22"/>
        <p:sld r:id="rId23"/>
        <p:sld r:id="rId24"/>
        <p:sld r:id="rId25"/>
      </p:sldLst>
    </p:custShow>
    <p:custShow name="BVD Chapter" id="3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</p:sldLst>
    </p:custShow>
    <p:custShow name="Transparencies" id="4">
      <p:sldLst>
        <p:sld r:id="rId7"/>
        <p:sld r:id="rId9"/>
        <p:sld r:id="rId22"/>
        <p:sld r:id="rId2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10">
            <a:hlinkClick r:id="rId5" action="ppaction://hlinksldjump"/>
          </p:cNvPr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>
            <a:hlinkClick r:id="rId6" action="ppaction://hlinksldjump"/>
          </p:cNvPr>
          <p:cNvSpPr/>
          <p:nvPr/>
        </p:nvSpPr>
        <p:spPr>
          <a:xfrm>
            <a:off x="4444920" y="6278400"/>
            <a:ext cx="1792440" cy="300240"/>
          </a:xfrm>
          <a:custGeom>
            <a:avLst/>
            <a:gdLst>
              <a:gd name="textAreaLeft" fmla="*/ 19440 w 1792440"/>
              <a:gd name="textAreaRight" fmla="*/ 1773000 w 1792440"/>
              <a:gd name="textAreaTop" fmla="*/ 19440 h 300240"/>
              <a:gd name="textAreaBottom" fmla="*/ 280800 h 300240"/>
            </a:gdLst>
            <a:ahLst/>
            <a:rect l="textAreaLeft" t="textAreaTop" r="textAreaRight" b="textAreaBottom"/>
            <a:pathLst>
              <a:path w="128824" h="21600">
                <a:moveTo>
                  <a:pt x="0" y="0"/>
                </a:moveTo>
                <a:lnTo>
                  <a:pt x="128824" y="0"/>
                </a:lnTo>
                <a:lnTo>
                  <a:pt x="128824" y="21600"/>
                </a:lnTo>
                <a:lnTo>
                  <a:pt x="0" y="21600"/>
                </a:lnTo>
                <a:close/>
              </a:path>
              <a:path fill="lightenLess" w="128824" h="21600">
                <a:moveTo>
                  <a:pt x="0" y="0"/>
                </a:moveTo>
                <a:lnTo>
                  <a:pt x="128824" y="0"/>
                </a:lnTo>
                <a:lnTo>
                  <a:pt x="127424" y="1400"/>
                </a:lnTo>
                <a:lnTo>
                  <a:pt x="1400" y="1400"/>
                </a:lnTo>
                <a:close/>
              </a:path>
              <a:path fill="darken" w="128824" h="21600">
                <a:moveTo>
                  <a:pt x="128824" y="0"/>
                </a:moveTo>
                <a:lnTo>
                  <a:pt x="128824" y="21600"/>
                </a:lnTo>
                <a:lnTo>
                  <a:pt x="127424" y="20200"/>
                </a:lnTo>
                <a:lnTo>
                  <a:pt x="127424" y="1400"/>
                </a:lnTo>
                <a:close/>
              </a:path>
              <a:path fill="darkenLess" w="128824" h="21600">
                <a:moveTo>
                  <a:pt x="128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424" y="20200"/>
                </a:lnTo>
                <a:close/>
              </a:path>
              <a:path fill="lighten" w="128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12">
            <a:hlinkClick r:id="rId7" action="ppaction://hlinksldjump"/>
          </p:cNvPr>
          <p:cNvSpPr/>
          <p:nvPr/>
        </p:nvSpPr>
        <p:spPr>
          <a:xfrm>
            <a:off x="6386400" y="6303960"/>
            <a:ext cx="1716120" cy="274680"/>
          </a:xfrm>
          <a:custGeom>
            <a:avLst/>
            <a:gdLst>
              <a:gd name="textAreaLeft" fmla="*/ 17640 w 1716120"/>
              <a:gd name="textAreaRight" fmla="*/ 1698480 w 17161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34802" h="21600">
                <a:moveTo>
                  <a:pt x="0" y="0"/>
                </a:moveTo>
                <a:lnTo>
                  <a:pt x="134802" y="0"/>
                </a:lnTo>
                <a:lnTo>
                  <a:pt x="134802" y="21600"/>
                </a:lnTo>
                <a:lnTo>
                  <a:pt x="0" y="21600"/>
                </a:lnTo>
                <a:close/>
              </a:path>
              <a:path fill="lightenLess" w="134802" h="21600">
                <a:moveTo>
                  <a:pt x="0" y="0"/>
                </a:moveTo>
                <a:lnTo>
                  <a:pt x="134802" y="0"/>
                </a:lnTo>
                <a:lnTo>
                  <a:pt x="133402" y="1400"/>
                </a:lnTo>
                <a:lnTo>
                  <a:pt x="1400" y="1400"/>
                </a:lnTo>
                <a:close/>
              </a:path>
              <a:path fill="darken" w="134802" h="21600">
                <a:moveTo>
                  <a:pt x="134802" y="0"/>
                </a:moveTo>
                <a:lnTo>
                  <a:pt x="134802" y="21600"/>
                </a:lnTo>
                <a:lnTo>
                  <a:pt x="133402" y="20200"/>
                </a:lnTo>
                <a:lnTo>
                  <a:pt x="133402" y="1400"/>
                </a:lnTo>
                <a:close/>
              </a:path>
              <a:path fill="darkenLess" w="134802" h="21600">
                <a:moveTo>
                  <a:pt x="134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402" y="20200"/>
                </a:lnTo>
                <a:close/>
              </a:path>
              <a:path fill="lighten" w="134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13"/>
          <p:cNvSpPr/>
          <p:nvPr/>
        </p:nvSpPr>
        <p:spPr>
          <a:xfrm>
            <a:off x="4444920" y="6248520"/>
            <a:ext cx="1792440" cy="330120"/>
          </a:xfrm>
          <a:custGeom>
            <a:avLst/>
            <a:gdLst>
              <a:gd name="textAreaLeft" fmla="*/ 21240 w 1792440"/>
              <a:gd name="textAreaRight" fmla="*/ 1771200 w 1792440"/>
              <a:gd name="textAreaTop" fmla="*/ 21240 h 330120"/>
              <a:gd name="textAreaBottom" fmla="*/ 308880 h 330120"/>
            </a:gdLst>
            <a:ahLst/>
            <a:rect l="textAreaLeft" t="textAreaTop" r="textAreaRight" b="textAreaBottom"/>
            <a:pathLst>
              <a:path w="117176" h="21600">
                <a:moveTo>
                  <a:pt x="0" y="0"/>
                </a:moveTo>
                <a:lnTo>
                  <a:pt x="117176" y="0"/>
                </a:lnTo>
                <a:lnTo>
                  <a:pt x="117176" y="21600"/>
                </a:lnTo>
                <a:lnTo>
                  <a:pt x="0" y="21600"/>
                </a:lnTo>
                <a:close/>
              </a:path>
              <a:path fill="lightenLess" w="117176" h="21600">
                <a:moveTo>
                  <a:pt x="0" y="0"/>
                </a:moveTo>
                <a:lnTo>
                  <a:pt x="117176" y="0"/>
                </a:lnTo>
                <a:lnTo>
                  <a:pt x="115777" y="1400"/>
                </a:lnTo>
                <a:lnTo>
                  <a:pt x="1400" y="1400"/>
                </a:lnTo>
                <a:close/>
              </a:path>
              <a:path fill="darken" w="117176" h="21600">
                <a:moveTo>
                  <a:pt x="117176" y="0"/>
                </a:moveTo>
                <a:lnTo>
                  <a:pt x="117176" y="21600"/>
                </a:lnTo>
                <a:lnTo>
                  <a:pt x="115777" y="20200"/>
                </a:lnTo>
                <a:lnTo>
                  <a:pt x="115777" y="1400"/>
                </a:lnTo>
                <a:close/>
              </a:path>
              <a:path fill="darkenLess" w="117176" h="21600">
                <a:moveTo>
                  <a:pt x="117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777" y="20200"/>
                </a:lnTo>
                <a:close/>
              </a:path>
              <a:path fill="lighten" w="117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4"/>
          <p:cNvSpPr/>
          <p:nvPr/>
        </p:nvSpPr>
        <p:spPr>
          <a:xfrm>
            <a:off x="6386400" y="6278400"/>
            <a:ext cx="1716120" cy="365400"/>
          </a:xfrm>
          <a:custGeom>
            <a:avLst/>
            <a:gdLst>
              <a:gd name="textAreaLeft" fmla="*/ 23400 w 1716120"/>
              <a:gd name="textAreaRight" fmla="*/ 1692720 w 1716120"/>
              <a:gd name="textAreaTop" fmla="*/ 23400 h 365400"/>
              <a:gd name="textAreaBottom" fmla="*/ 342000 h 365400"/>
            </a:gdLst>
            <a:ahLst/>
            <a:rect l="textAreaLeft" t="textAreaTop" r="textAreaRight" b="textAreaBottom"/>
            <a:pathLst>
              <a:path w="101367" h="21600">
                <a:moveTo>
                  <a:pt x="0" y="0"/>
                </a:moveTo>
                <a:lnTo>
                  <a:pt x="101367" y="0"/>
                </a:lnTo>
                <a:lnTo>
                  <a:pt x="101367" y="21600"/>
                </a:lnTo>
                <a:lnTo>
                  <a:pt x="0" y="21600"/>
                </a:lnTo>
                <a:close/>
              </a:path>
              <a:path fill="lightenLess" w="101367" h="21600">
                <a:moveTo>
                  <a:pt x="0" y="0"/>
                </a:moveTo>
                <a:lnTo>
                  <a:pt x="101367" y="0"/>
                </a:lnTo>
                <a:lnTo>
                  <a:pt x="99967" y="1400"/>
                </a:lnTo>
                <a:lnTo>
                  <a:pt x="1400" y="1400"/>
                </a:lnTo>
                <a:close/>
              </a:path>
              <a:path fill="darken" w="101367" h="21600">
                <a:moveTo>
                  <a:pt x="101367" y="0"/>
                </a:moveTo>
                <a:lnTo>
                  <a:pt x="101367" y="21600"/>
                </a:lnTo>
                <a:lnTo>
                  <a:pt x="99967" y="20200"/>
                </a:lnTo>
                <a:lnTo>
                  <a:pt x="99967" y="1400"/>
                </a:lnTo>
                <a:close/>
              </a:path>
              <a:path fill="darkenLess" w="101367" h="21600">
                <a:moveTo>
                  <a:pt x="101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967" y="20200"/>
                </a:lnTo>
                <a:close/>
              </a:path>
              <a:path fill="lighten" w="101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6350040" y="6248520"/>
            <a:ext cx="1792080" cy="393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6483240" y="62784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4"/>
          <a:stretch/>
        </p:blipFill>
        <p:spPr>
          <a:xfrm>
            <a:off x="4444920" y="6248520"/>
            <a:ext cx="1792440" cy="393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4597560" y="62784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hapter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4444920" y="6278400"/>
            <a:ext cx="1792440" cy="274680"/>
          </a:xfrm>
          <a:custGeom>
            <a:avLst/>
            <a:gdLst>
              <a:gd name="textAreaLeft" fmla="*/ 17640 w 1792440"/>
              <a:gd name="textAreaRight" fmla="*/ 1774800 w 17924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40796" h="21600">
                <a:moveTo>
                  <a:pt x="0" y="0"/>
                </a:moveTo>
                <a:lnTo>
                  <a:pt x="140796" y="0"/>
                </a:lnTo>
                <a:lnTo>
                  <a:pt x="140796" y="21600"/>
                </a:lnTo>
                <a:lnTo>
                  <a:pt x="0" y="21600"/>
                </a:lnTo>
                <a:close/>
              </a:path>
              <a:path fill="lightenLess" w="140796" h="21600">
                <a:moveTo>
                  <a:pt x="0" y="0"/>
                </a:moveTo>
                <a:lnTo>
                  <a:pt x="140796" y="0"/>
                </a:lnTo>
                <a:lnTo>
                  <a:pt x="139396" y="1400"/>
                </a:lnTo>
                <a:lnTo>
                  <a:pt x="1400" y="1400"/>
                </a:lnTo>
                <a:close/>
              </a:path>
              <a:path fill="darken" w="140796" h="21600">
                <a:moveTo>
                  <a:pt x="140796" y="0"/>
                </a:moveTo>
                <a:lnTo>
                  <a:pt x="140796" y="21600"/>
                </a:lnTo>
                <a:lnTo>
                  <a:pt x="139396" y="20200"/>
                </a:lnTo>
                <a:lnTo>
                  <a:pt x="139396" y="1400"/>
                </a:lnTo>
                <a:close/>
              </a:path>
              <a:path fill="darkenLess" w="140796" h="21600">
                <a:moveTo>
                  <a:pt x="140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396" y="20200"/>
                </a:lnTo>
                <a:close/>
              </a:path>
              <a:path fill="lighten" w="140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0"/>
          <p:cNvSpPr/>
          <p:nvPr/>
        </p:nvSpPr>
        <p:spPr>
          <a:xfrm>
            <a:off x="6350040" y="6278400"/>
            <a:ext cx="1792080" cy="274680"/>
          </a:xfrm>
          <a:custGeom>
            <a:avLst/>
            <a:gdLst>
              <a:gd name="textAreaLeft" fmla="*/ 17640 w 1792080"/>
              <a:gd name="textAreaRight" fmla="*/ 1774440 w 17920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140768" h="21600">
                <a:moveTo>
                  <a:pt x="0" y="0"/>
                </a:moveTo>
                <a:lnTo>
                  <a:pt x="140768" y="0"/>
                </a:lnTo>
                <a:lnTo>
                  <a:pt x="140768" y="21600"/>
                </a:lnTo>
                <a:lnTo>
                  <a:pt x="0" y="21600"/>
                </a:lnTo>
                <a:close/>
              </a:path>
              <a:path fill="lightenLess" w="140768" h="21600">
                <a:moveTo>
                  <a:pt x="0" y="0"/>
                </a:moveTo>
                <a:lnTo>
                  <a:pt x="140768" y="0"/>
                </a:lnTo>
                <a:lnTo>
                  <a:pt x="139368" y="1400"/>
                </a:lnTo>
                <a:lnTo>
                  <a:pt x="1400" y="1400"/>
                </a:lnTo>
                <a:close/>
              </a:path>
              <a:path fill="darken" w="140768" h="21600">
                <a:moveTo>
                  <a:pt x="140768" y="0"/>
                </a:moveTo>
                <a:lnTo>
                  <a:pt x="140768" y="21600"/>
                </a:lnTo>
                <a:lnTo>
                  <a:pt x="139368" y="20200"/>
                </a:lnTo>
                <a:lnTo>
                  <a:pt x="139368" y="1400"/>
                </a:lnTo>
                <a:close/>
              </a:path>
              <a:path fill="darkenLess" w="140768" h="21600">
                <a:moveTo>
                  <a:pt x="1407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368" y="20200"/>
                </a:lnTo>
                <a:close/>
              </a:path>
              <a:path fill="lighten" w="1407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4444920" y="6248520"/>
            <a:ext cx="1792440" cy="393480"/>
          </a:xfrm>
          <a:custGeom>
            <a:avLst/>
            <a:gdLst>
              <a:gd name="textAreaLeft" fmla="*/ 25200 w 1792440"/>
              <a:gd name="textAreaRight" fmla="*/ 1767240 w 179244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98325" h="21600">
                <a:moveTo>
                  <a:pt x="0" y="0"/>
                </a:moveTo>
                <a:lnTo>
                  <a:pt x="98325" y="0"/>
                </a:lnTo>
                <a:lnTo>
                  <a:pt x="98325" y="21600"/>
                </a:lnTo>
                <a:lnTo>
                  <a:pt x="0" y="21600"/>
                </a:lnTo>
                <a:close/>
              </a:path>
              <a:path fill="lightenLess" w="98325" h="21600">
                <a:moveTo>
                  <a:pt x="0" y="0"/>
                </a:moveTo>
                <a:lnTo>
                  <a:pt x="98325" y="0"/>
                </a:lnTo>
                <a:lnTo>
                  <a:pt x="96925" y="1400"/>
                </a:lnTo>
                <a:lnTo>
                  <a:pt x="1400" y="1400"/>
                </a:lnTo>
                <a:close/>
              </a:path>
              <a:path fill="darken" w="98325" h="21600">
                <a:moveTo>
                  <a:pt x="98325" y="0"/>
                </a:moveTo>
                <a:lnTo>
                  <a:pt x="98325" y="21600"/>
                </a:lnTo>
                <a:lnTo>
                  <a:pt x="96925" y="20200"/>
                </a:lnTo>
                <a:lnTo>
                  <a:pt x="96925" y="1400"/>
                </a:lnTo>
                <a:close/>
              </a:path>
              <a:path fill="darkenLess" w="98325" h="21600">
                <a:moveTo>
                  <a:pt x="983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925" y="20200"/>
                </a:lnTo>
                <a:close/>
              </a:path>
              <a:path fill="lighten" w="983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6350040" y="6248520"/>
            <a:ext cx="1792080" cy="395280"/>
          </a:xfrm>
          <a:custGeom>
            <a:avLst/>
            <a:gdLst>
              <a:gd name="textAreaLeft" fmla="*/ 25560 w 1792080"/>
              <a:gd name="textAreaRight" fmla="*/ 1766520 w 17920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97858" h="21600">
                <a:moveTo>
                  <a:pt x="0" y="0"/>
                </a:moveTo>
                <a:lnTo>
                  <a:pt x="97858" y="0"/>
                </a:lnTo>
                <a:lnTo>
                  <a:pt x="97858" y="21600"/>
                </a:lnTo>
                <a:lnTo>
                  <a:pt x="0" y="21600"/>
                </a:lnTo>
                <a:close/>
              </a:path>
              <a:path fill="lightenLess" w="97858" h="21600">
                <a:moveTo>
                  <a:pt x="0" y="0"/>
                </a:moveTo>
                <a:lnTo>
                  <a:pt x="97858" y="0"/>
                </a:lnTo>
                <a:lnTo>
                  <a:pt x="96458" y="1400"/>
                </a:lnTo>
                <a:lnTo>
                  <a:pt x="1400" y="1400"/>
                </a:lnTo>
                <a:close/>
              </a:path>
              <a:path fill="darken" w="97858" h="21600">
                <a:moveTo>
                  <a:pt x="97858" y="0"/>
                </a:moveTo>
                <a:lnTo>
                  <a:pt x="97858" y="21600"/>
                </a:lnTo>
                <a:lnTo>
                  <a:pt x="96458" y="20200"/>
                </a:lnTo>
                <a:lnTo>
                  <a:pt x="96458" y="1400"/>
                </a:lnTo>
                <a:close/>
              </a:path>
              <a:path fill="darkenLess" w="97858" h="21600">
                <a:moveTo>
                  <a:pt x="97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458" y="20200"/>
                </a:lnTo>
                <a:close/>
              </a:path>
              <a:path fill="lighten" w="97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1066680" y="1523880"/>
            <a:ext cx="707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103400" y="2460600"/>
            <a:ext cx="712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1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ection 3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2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489480" y="152280"/>
            <a:ext cx="435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Bacteria and 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1"/>
          <p:cNvSpPr/>
          <p:nvPr/>
        </p:nvSpPr>
        <p:spPr>
          <a:xfrm>
            <a:off x="1103400" y="2460600"/>
            <a:ext cx="2859120" cy="434880"/>
          </a:xfrm>
          <a:custGeom>
            <a:avLst/>
            <a:gdLst>
              <a:gd name="textAreaLeft" fmla="*/ 28080 w 2859120"/>
              <a:gd name="textAreaRight" fmla="*/ 2831040 w 28591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141910" h="21600">
                <a:moveTo>
                  <a:pt x="0" y="0"/>
                </a:moveTo>
                <a:lnTo>
                  <a:pt x="141910" y="0"/>
                </a:lnTo>
                <a:lnTo>
                  <a:pt x="141910" y="21600"/>
                </a:lnTo>
                <a:lnTo>
                  <a:pt x="0" y="21600"/>
                </a:lnTo>
                <a:close/>
              </a:path>
              <a:path fill="lightenLess" w="141910" h="21600">
                <a:moveTo>
                  <a:pt x="0" y="0"/>
                </a:moveTo>
                <a:lnTo>
                  <a:pt x="141910" y="0"/>
                </a:lnTo>
                <a:lnTo>
                  <a:pt x="140510" y="1400"/>
                </a:lnTo>
                <a:lnTo>
                  <a:pt x="1400" y="1400"/>
                </a:lnTo>
                <a:close/>
              </a:path>
              <a:path fill="darken" w="141910" h="21600">
                <a:moveTo>
                  <a:pt x="141910" y="0"/>
                </a:moveTo>
                <a:lnTo>
                  <a:pt x="141910" y="21600"/>
                </a:lnTo>
                <a:lnTo>
                  <a:pt x="140510" y="20200"/>
                </a:lnTo>
                <a:lnTo>
                  <a:pt x="140510" y="1400"/>
                </a:lnTo>
                <a:close/>
              </a:path>
              <a:path fill="darkenLess" w="141910" h="21600">
                <a:moveTo>
                  <a:pt x="141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510" y="20200"/>
                </a:lnTo>
                <a:close/>
              </a:path>
              <a:path fill="lighten" w="141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2"/>
          <p:cNvSpPr/>
          <p:nvPr/>
        </p:nvSpPr>
        <p:spPr>
          <a:xfrm>
            <a:off x="1103400" y="3200400"/>
            <a:ext cx="5526000" cy="457200"/>
          </a:xfrm>
          <a:custGeom>
            <a:avLst/>
            <a:gdLst>
              <a:gd name="textAreaLeft" fmla="*/ 29520 w 5526000"/>
              <a:gd name="textAreaRight" fmla="*/ 5496480 w 5526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60882" h="21600">
                <a:moveTo>
                  <a:pt x="0" y="0"/>
                </a:moveTo>
                <a:lnTo>
                  <a:pt x="260882" y="0"/>
                </a:lnTo>
                <a:lnTo>
                  <a:pt x="260882" y="21600"/>
                </a:lnTo>
                <a:lnTo>
                  <a:pt x="0" y="21600"/>
                </a:lnTo>
                <a:close/>
              </a:path>
              <a:path fill="lightenLess" w="260882" h="21600">
                <a:moveTo>
                  <a:pt x="0" y="0"/>
                </a:moveTo>
                <a:lnTo>
                  <a:pt x="260882" y="0"/>
                </a:lnTo>
                <a:lnTo>
                  <a:pt x="259483" y="1400"/>
                </a:lnTo>
                <a:lnTo>
                  <a:pt x="1400" y="1400"/>
                </a:lnTo>
                <a:close/>
              </a:path>
              <a:path fill="darken" w="260882" h="21600">
                <a:moveTo>
                  <a:pt x="260882" y="0"/>
                </a:moveTo>
                <a:lnTo>
                  <a:pt x="260882" y="21600"/>
                </a:lnTo>
                <a:lnTo>
                  <a:pt x="259483" y="20200"/>
                </a:lnTo>
                <a:lnTo>
                  <a:pt x="259483" y="1400"/>
                </a:lnTo>
                <a:close/>
              </a:path>
              <a:path fill="darkenLess" w="260882" h="21600">
                <a:moveTo>
                  <a:pt x="2608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483" y="20200"/>
                </a:lnTo>
                <a:close/>
              </a:path>
              <a:path fill="lighten" w="2608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3"/>
          <p:cNvSpPr/>
          <p:nvPr/>
        </p:nvSpPr>
        <p:spPr>
          <a:xfrm>
            <a:off x="1103400" y="3962520"/>
            <a:ext cx="2706480" cy="380880"/>
          </a:xfrm>
          <a:custGeom>
            <a:avLst/>
            <a:gdLst>
              <a:gd name="textAreaLeft" fmla="*/ 24480 w 2706480"/>
              <a:gd name="textAreaRight" fmla="*/ 2682000 w 2706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3362" h="21600">
                <a:moveTo>
                  <a:pt x="0" y="0"/>
                </a:moveTo>
                <a:lnTo>
                  <a:pt x="153362" y="0"/>
                </a:lnTo>
                <a:lnTo>
                  <a:pt x="153362" y="21600"/>
                </a:lnTo>
                <a:lnTo>
                  <a:pt x="0" y="21600"/>
                </a:lnTo>
                <a:close/>
              </a:path>
              <a:path fill="lightenLess" w="153362" h="21600">
                <a:moveTo>
                  <a:pt x="0" y="0"/>
                </a:moveTo>
                <a:lnTo>
                  <a:pt x="153362" y="0"/>
                </a:lnTo>
                <a:lnTo>
                  <a:pt x="151962" y="1400"/>
                </a:lnTo>
                <a:lnTo>
                  <a:pt x="1400" y="1400"/>
                </a:lnTo>
                <a:close/>
              </a:path>
              <a:path fill="darken" w="153362" h="21600">
                <a:moveTo>
                  <a:pt x="153362" y="0"/>
                </a:moveTo>
                <a:lnTo>
                  <a:pt x="153362" y="21600"/>
                </a:lnTo>
                <a:lnTo>
                  <a:pt x="151962" y="20200"/>
                </a:lnTo>
                <a:lnTo>
                  <a:pt x="151962" y="1400"/>
                </a:lnTo>
                <a:close/>
              </a:path>
              <a:path fill="darkenLess" w="153362" h="21600">
                <a:moveTo>
                  <a:pt x="153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1962" y="20200"/>
                </a:lnTo>
                <a:close/>
              </a:path>
              <a:path fill="lighten" w="153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1103400" y="2460600"/>
            <a:ext cx="4687920" cy="434880"/>
          </a:xfrm>
          <a:custGeom>
            <a:avLst/>
            <a:gdLst>
              <a:gd name="textAreaLeft" fmla="*/ 28080 w 4687920"/>
              <a:gd name="textAreaRight" fmla="*/ 4659840 w 4687920"/>
              <a:gd name="textAreaTop" fmla="*/ 28080 h 434880"/>
              <a:gd name="textAreaBottom" fmla="*/ 406800 h 434880"/>
            </a:gdLst>
            <a:ahLst/>
            <a:rect l="textAreaLeft" t="textAreaTop" r="textAreaRight" b="textAreaBottom"/>
            <a:pathLst>
              <a:path w="232669" h="21600">
                <a:moveTo>
                  <a:pt x="0" y="0"/>
                </a:moveTo>
                <a:lnTo>
                  <a:pt x="232669" y="0"/>
                </a:lnTo>
                <a:lnTo>
                  <a:pt x="232669" y="21600"/>
                </a:lnTo>
                <a:lnTo>
                  <a:pt x="0" y="21600"/>
                </a:lnTo>
                <a:close/>
              </a:path>
              <a:path fill="lightenLess" w="232669" h="21600">
                <a:moveTo>
                  <a:pt x="0" y="0"/>
                </a:moveTo>
                <a:lnTo>
                  <a:pt x="232669" y="0"/>
                </a:lnTo>
                <a:lnTo>
                  <a:pt x="231269" y="1400"/>
                </a:lnTo>
                <a:lnTo>
                  <a:pt x="1400" y="1400"/>
                </a:lnTo>
                <a:close/>
              </a:path>
              <a:path fill="darken" w="232669" h="21600">
                <a:moveTo>
                  <a:pt x="232669" y="0"/>
                </a:moveTo>
                <a:lnTo>
                  <a:pt x="232669" y="21600"/>
                </a:lnTo>
                <a:lnTo>
                  <a:pt x="231269" y="20200"/>
                </a:lnTo>
                <a:lnTo>
                  <a:pt x="231269" y="1400"/>
                </a:lnTo>
                <a:close/>
              </a:path>
              <a:path fill="darkenLess" w="232669" h="21600">
                <a:moveTo>
                  <a:pt x="2326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269" y="20200"/>
                </a:lnTo>
                <a:close/>
              </a:path>
              <a:path fill="lighten" w="2326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1103400" y="3200400"/>
            <a:ext cx="5430600" cy="457200"/>
          </a:xfrm>
          <a:custGeom>
            <a:avLst/>
            <a:gdLst>
              <a:gd name="textAreaLeft" fmla="*/ 29520 w 5430600"/>
              <a:gd name="textAreaRight" fmla="*/ 5401080 w 5430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6379" h="21600">
                <a:moveTo>
                  <a:pt x="0" y="0"/>
                </a:moveTo>
                <a:lnTo>
                  <a:pt x="256379" y="0"/>
                </a:lnTo>
                <a:lnTo>
                  <a:pt x="256379" y="21600"/>
                </a:lnTo>
                <a:lnTo>
                  <a:pt x="0" y="21600"/>
                </a:lnTo>
                <a:close/>
              </a:path>
              <a:path fill="lightenLess" w="256379" h="21600">
                <a:moveTo>
                  <a:pt x="0" y="0"/>
                </a:moveTo>
                <a:lnTo>
                  <a:pt x="256379" y="0"/>
                </a:lnTo>
                <a:lnTo>
                  <a:pt x="254979" y="1400"/>
                </a:lnTo>
                <a:lnTo>
                  <a:pt x="1400" y="1400"/>
                </a:lnTo>
                <a:close/>
              </a:path>
              <a:path fill="darken" w="256379" h="21600">
                <a:moveTo>
                  <a:pt x="256379" y="0"/>
                </a:moveTo>
                <a:lnTo>
                  <a:pt x="256379" y="21600"/>
                </a:lnTo>
                <a:lnTo>
                  <a:pt x="254979" y="20200"/>
                </a:lnTo>
                <a:lnTo>
                  <a:pt x="254979" y="1400"/>
                </a:lnTo>
                <a:close/>
              </a:path>
              <a:path fill="darkenLess" w="256379" h="21600">
                <a:moveTo>
                  <a:pt x="256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979" y="20200"/>
                </a:lnTo>
                <a:close/>
              </a:path>
              <a:path fill="lighten" w="256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1066680" y="3962520"/>
            <a:ext cx="2743200" cy="380880"/>
          </a:xfrm>
          <a:custGeom>
            <a:avLst/>
            <a:gdLst>
              <a:gd name="textAreaLeft" fmla="*/ 24480 w 2743200"/>
              <a:gd name="textAreaRight" fmla="*/ 2718720 w 2743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55442" h="21600">
                <a:moveTo>
                  <a:pt x="0" y="0"/>
                </a:moveTo>
                <a:lnTo>
                  <a:pt x="155442" y="0"/>
                </a:lnTo>
                <a:lnTo>
                  <a:pt x="155442" y="21600"/>
                </a:lnTo>
                <a:lnTo>
                  <a:pt x="0" y="21600"/>
                </a:lnTo>
                <a:close/>
              </a:path>
              <a:path fill="lightenLess" w="155442" h="21600">
                <a:moveTo>
                  <a:pt x="0" y="0"/>
                </a:moveTo>
                <a:lnTo>
                  <a:pt x="155442" y="0"/>
                </a:lnTo>
                <a:lnTo>
                  <a:pt x="154043" y="1400"/>
                </a:lnTo>
                <a:lnTo>
                  <a:pt x="1400" y="1400"/>
                </a:lnTo>
                <a:close/>
              </a:path>
              <a:path fill="darken" w="155442" h="21600">
                <a:moveTo>
                  <a:pt x="155442" y="0"/>
                </a:moveTo>
                <a:lnTo>
                  <a:pt x="155442" y="21600"/>
                </a:lnTo>
                <a:lnTo>
                  <a:pt x="154043" y="20200"/>
                </a:lnTo>
                <a:lnTo>
                  <a:pt x="154043" y="1400"/>
                </a:lnTo>
                <a:close/>
              </a:path>
              <a:path fill="darkenLess" w="155442" h="21600">
                <a:moveTo>
                  <a:pt x="155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043" y="20200"/>
                </a:lnTo>
                <a:close/>
              </a:path>
              <a:path fill="lighten" w="155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1"/>
          <p:cNvSpPr/>
          <p:nvPr/>
        </p:nvSpPr>
        <p:spPr>
          <a:xfrm>
            <a:off x="1044720" y="1295280"/>
            <a:ext cx="7489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990720" y="2108160"/>
            <a:ext cx="7391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life on Earth depends o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ways bacteria are useful to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wo ways in which bacteria can be harmful to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3200400" y="152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1"/>
          <p:cNvSpPr/>
          <p:nvPr/>
        </p:nvSpPr>
        <p:spPr>
          <a:xfrm>
            <a:off x="914400" y="12952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ood for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882720" y="1905120"/>
            <a:ext cx="749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itrogen Fixa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itrogen-fixing bacteria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7" descr=""/>
          <p:cNvPicPr/>
          <p:nvPr/>
        </p:nvPicPr>
        <p:blipFill>
          <a:blip r:embed="rId2"/>
          <a:stretch/>
        </p:blipFill>
        <p:spPr>
          <a:xfrm>
            <a:off x="2077920" y="3162240"/>
            <a:ext cx="5173920" cy="28321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8"/>
          <p:cNvSpPr/>
          <p:nvPr/>
        </p:nvSpPr>
        <p:spPr>
          <a:xfrm>
            <a:off x="3200400" y="152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1"/>
          <p:cNvSpPr/>
          <p:nvPr/>
        </p:nvSpPr>
        <p:spPr>
          <a:xfrm>
            <a:off x="914400" y="138924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ood for the Environment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895320" y="2155680"/>
            <a:ext cx="7334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cycl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omposer bacteria break down dead plant and animal matter, which makes nutrients available to other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eaning U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is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omediation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omediation can be used to clean up hazardous waste and oil sp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200400" y="152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1"/>
          <p:cNvSpPr/>
          <p:nvPr/>
        </p:nvSpPr>
        <p:spPr>
          <a:xfrm>
            <a:off x="981000" y="12952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ood f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906480" y="2133720"/>
            <a:ext cx="7475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acteria in Your Foo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ny common foods, such as cheese, yogurt, and sour cream, are made with the help of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aking Medicin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ines used to kill bacteria and other microorganisms are call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ntibiotic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ntibiotics are made by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3200400" y="152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1"/>
          <p:cNvSpPr/>
          <p:nvPr/>
        </p:nvSpPr>
        <p:spPr>
          <a:xfrm>
            <a:off x="981000" y="12952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ood for People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06480" y="2133720"/>
            <a:ext cx="7628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sul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1970s, scientists discovered how to put genes into bacteria so that the bacteria would make human ins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tic Engineer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the genes of bacteria, or any other living thing. Scientists can now engineer bacteria to make many products, such as insecticides, cleansers, and adhes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0400" y="152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1"/>
          <p:cNvSpPr/>
          <p:nvPr/>
        </p:nvSpPr>
        <p:spPr>
          <a:xfrm>
            <a:off x="981000" y="1295280"/>
            <a:ext cx="7705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armful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958680" y="2019240"/>
            <a:ext cx="749952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athogenic bact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bacteria that cause disease by getting inside a host organism and taking nutrients from the host’s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iseases in Other Organism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cause diseases in other organisms as well as in people. Pathogenic bacteria attack plants, animals, protists, fungi, and even other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3200400" y="152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’s Role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990720" y="1371600"/>
            <a:ext cx="7364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990720" y="2230560"/>
            <a:ext cx="73911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viruses are similar to and different from living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major virus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two kinds of viral re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1"/>
          <p:cNvSpPr/>
          <p:nvPr/>
        </p:nvSpPr>
        <p:spPr>
          <a:xfrm>
            <a:off x="923760" y="1219320"/>
            <a:ext cx="745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t’s a Smal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947880" y="1828800"/>
            <a:ext cx="7457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 are tiny. They are smaller than the smallest bacteria. About 5 billion virus particles could fit in a single drop of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923760" y="3305160"/>
            <a:ext cx="745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re Viruses Liv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923760" y="3971880"/>
            <a:ext cx="7786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living things, viruses contain protein and genetic material. But vir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act like living things. They can’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1"/>
          <p:cNvSpPr/>
          <p:nvPr/>
        </p:nvSpPr>
        <p:spPr>
          <a:xfrm>
            <a:off x="914400" y="1312920"/>
            <a:ext cx="745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assify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895320" y="2133720"/>
            <a:ext cx="74772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 can be grouped by their shape, the type of disease they cause, their life cycle, or the kind of genetic material they con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ur Main Shap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ur main shapes of viruses are shown on the nex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4" descr=""/>
          <p:cNvPicPr/>
          <p:nvPr/>
        </p:nvPicPr>
        <p:blipFill>
          <a:blip r:embed="rId2"/>
          <a:stretch/>
        </p:blipFill>
        <p:spPr>
          <a:xfrm>
            <a:off x="1195560" y="1089000"/>
            <a:ext cx="6957720" cy="50212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5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5334120" y="6643800"/>
            <a:ext cx="304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pyright © by Holt, Rinehart and Winston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923760" y="1295280"/>
            <a:ext cx="7269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914400" y="2170080"/>
            <a:ext cx="7620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haracteristics of prokary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xpl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w prokary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odu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l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characteristics of archa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1"/>
          <p:cNvSpPr/>
          <p:nvPr/>
        </p:nvSpPr>
        <p:spPr>
          <a:xfrm>
            <a:off x="1004760" y="1585800"/>
            <a:ext cx="745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 Destructive House G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004760" y="2324160"/>
            <a:ext cx="7301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 attack living cells and turn them into virus factories. Viruses reproduce using the lytic cy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 Time Bom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viruses put their genes into a host cell, but new viruses are not made right away. New cells get copies of the virus’s genes when the host cell divides. The genes stay inactive for a long time before they make copies of the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4" descr=""/>
          <p:cNvPicPr/>
          <p:nvPr/>
        </p:nvPicPr>
        <p:blipFill>
          <a:blip r:embed="rId2"/>
          <a:stretch/>
        </p:blipFill>
        <p:spPr>
          <a:xfrm>
            <a:off x="2001960" y="1077840"/>
            <a:ext cx="5281560" cy="5004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914400" y="1585800"/>
            <a:ext cx="7458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 Destructive House Guest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914400" y="2324160"/>
            <a:ext cx="7796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reating a Vir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many viral diseases do not have cures, it is best to prevent a viral infection from happening in the first place. Vaccinations give your immune system a head start in fighting off viruses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3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8101080" y="5500800"/>
            <a:ext cx="585720" cy="595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963720" y="1266840"/>
            <a:ext cx="7137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me Characteristics of Bacteria and Archa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90720" y="2460600"/>
            <a:ext cx="7315200" cy="21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mains Bacteria and Archaea consists of single-celled organisms. These two domains consist of the oldest forms of life on Ea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Shape of Bacter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6" descr="l10-7"/>
          <p:cNvPicPr/>
          <p:nvPr/>
        </p:nvPicPr>
        <p:blipFill>
          <a:blip r:embed="rId2"/>
          <a:stretch/>
        </p:blipFill>
        <p:spPr>
          <a:xfrm>
            <a:off x="762120" y="1104840"/>
            <a:ext cx="7848360" cy="499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l10-7a"/>
          <p:cNvPicPr/>
          <p:nvPr/>
        </p:nvPicPr>
        <p:blipFill>
          <a:blip r:embed="rId3"/>
          <a:stretch/>
        </p:blipFill>
        <p:spPr>
          <a:xfrm>
            <a:off x="990720" y="1181160"/>
            <a:ext cx="411480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987480" y="1287360"/>
            <a:ext cx="6808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me Characteristics of Bacteria and Archaea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14480" y="2362320"/>
            <a:ext cx="73911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No Nucleus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An organism that does not have a nucleus is called a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kary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rokaryo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Reprodu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karyotes reproduce by a process calle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inary fission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which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2"/>
          <a:stretch/>
        </p:blipFill>
        <p:spPr>
          <a:xfrm>
            <a:off x="728640" y="1092240"/>
            <a:ext cx="7831080" cy="484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5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4"/>
          <p:cNvSpPr/>
          <p:nvPr/>
        </p:nvSpPr>
        <p:spPr>
          <a:xfrm>
            <a:off x="914400" y="2514600"/>
            <a:ext cx="72788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ndospor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 Some bacteria become inactive and form endospores in poor environmental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conditions improve, the endospores break open and the bacteria become activ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9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0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1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2"/>
          <p:cNvSpPr/>
          <p:nvPr/>
        </p:nvSpPr>
        <p:spPr>
          <a:xfrm>
            <a:off x="987480" y="1287360"/>
            <a:ext cx="6808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Some Characteristics of Bacteria and Archaea,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ontinued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941400" y="1312920"/>
            <a:ext cx="7364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Domai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950760" y="2057400"/>
            <a:ext cx="72662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main Bacteria has more individuals than all other domains combined 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lassification of Bacter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teria are classified by *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yanobacter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producers. Cyanobacteria usually live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3879720" y="487692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1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8124840" y="5521320"/>
            <a:ext cx="585720" cy="5954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990720" y="1389240"/>
            <a:ext cx="7076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Domain Archa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3879720" y="487692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990720" y="22446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ain types of archaea are 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arsh Environment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aea often live where nothing else can. Most archaea prefer environments where there is little or no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1045080" y="152280"/>
            <a:ext cx="20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3429000" y="152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1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teria and 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14:05Z</dcterms:created>
  <dc:creator>Charles Mott</dc:creator>
  <dc:description/>
  <dc:language>en-US</dc:language>
  <cp:lastModifiedBy>trocksund</cp:lastModifiedBy>
  <cp:lastPrinted>2004-02-20T14:12:55Z</cp:lastPrinted>
  <dcterms:modified xsi:type="dcterms:W3CDTF">2013-12-16T16:10:52Z</dcterms:modified>
  <cp:revision>57</cp:revision>
  <dc:subject/>
  <dc:title>PowerPoint Presentation</dc:title>
</cp:coreProperties>
</file>